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41D8F-31AA-4204-AD6F-FFED5FE86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3E8C4-B79C-4D4F-9D47-9663AF5AC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0A273-4FB9-414E-9442-495E377F1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E9C7A-8915-4E75-B459-14AF23583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AFB86-1C8F-493B-879F-23A2ECD5B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75551-BC2A-433D-AF81-47A5BCE2D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08E1E-BDF5-491E-8DA6-98F9DE5AC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85B74-766A-4322-9032-9C7CDDAFF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5D5C0-E67B-4F9C-BF99-C978B301D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86DB0-BA05-461F-98C7-CBA99CF99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B8651-E80A-42C1-886E-1103D7181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39CE7-F935-4939-ABC0-B79AD5DE1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5AF90-3A1A-410E-8CC4-10CCE87C9A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7120" y="1400040"/>
          <a:ext cx="6087960" cy="405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7120" y="1400040"/>
                    <a:ext cx="608796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4:23Z</dcterms:created>
  <dc:creator>Oliver Craemer</dc:creator>
  <dc:description/>
  <dc:language>en-US</dc:language>
  <cp:lastModifiedBy>Oliver Craemer</cp:lastModifiedBy>
  <dcterms:modified xsi:type="dcterms:W3CDTF">2005-01-06T09:24:29Z</dcterms:modified>
  <cp:revision>1</cp:revision>
  <dc:subject/>
  <dc:title>Slide 1</dc:title>
</cp:coreProperties>
</file>