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8DDD-20DE-4222-8FBA-4F6ED6CE9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03E3-E86F-4D02-B638-118AF633A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FC7810-966D-480D-96E9-17271EC54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41A63A-A973-46D8-8787-C389997EA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91D7E3-E7DC-40A8-A610-10070688E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8A9EAB-B420-4E90-8450-6492BE81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8F43DA-6CA2-4FEC-9BEA-94DDF0D7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53355E-9BCB-4AE6-A372-728B1517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CB2C37-BF6A-49BD-9DC0-72BBC9402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162B6B-7B9F-4623-99C5-F20D5CB32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EA6143-8BC5-4656-B78D-3A24B08C3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64A430B-A2FF-48CD-8C20-A6933F71C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FCAD-25D4-4774-972E-05E3BAA6F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85849D5-0612-4842-9B06-5C1257174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7540006-EC44-434F-AF1A-4B72ABBBA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9EF5481-E3F5-49A1-853C-9061AB7BA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515F2FB-163C-4150-9A1A-E2D44EC18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5D7DCBA-5978-4F4D-9DD8-BFDA5478D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F396A43-760F-4ADE-BB06-35013CE2D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110DEE9-3AC3-48B3-B600-0CBE29D1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2E61E36-919C-44B8-9011-81F4F0024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C51A498-AE4F-4556-9E95-FD3678B47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9C62AE3-897D-48B5-92F2-C891B1130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65ED-2246-47B2-BE6D-AACE2013A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7BF3C45-6F25-4A81-90B5-E0C10412E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5D3493-E0DC-48D6-A457-C8F4F10E9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45F1E6-1702-4451-A5C3-AA247EFC2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DC31C1-E674-4F54-9369-03F244ECF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0ADF83-425D-402A-9BB7-6C690DF6B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8749AD-DDC1-4E00-BCF1-B839596F5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59A942-F7C5-4E96-ADDC-65EDF1CCE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DFB264-D4D9-4F83-ACDF-A5962B41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121363-4E15-4D15-890B-41A77E4FA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4E1F95-13F2-4462-8676-9C858E2E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3373A-3923-4CC0-ADC6-7EEEDED57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66DBCD-7E1E-4E52-BEF1-9143708C9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78275A-E0AF-42FB-AD56-11874A14B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C84170-61A5-4D80-9709-02160CD60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4901BC-A8C8-44E2-B48E-134DF872E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EEB13D-5D62-4477-8611-7253134FC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762D79-7CD9-42CC-9A2E-D85F9FFD4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2D15EE-3AC9-49E0-896C-F50928030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A29BF8-5F22-453F-A5BB-8E1F9B81E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4972D9-5A60-4D76-9872-E27F87FCC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C41225-402C-4558-80A4-D7BCD8CB5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DE318-673E-4253-9BE6-650A6E511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4D77CF-0EAE-403F-B59F-CA545A9C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5E87FB-2382-45E8-9FCF-784C63398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4557DD-3530-4656-84D2-58D8C196B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18912D-E524-468E-A5D1-FF3C53B4C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F30717-DD8D-4052-A93C-36B9ED2C2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0F64F-7289-441C-843F-505A065C0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9F3AD-0E6C-48B0-A282-66CB0E1D3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83EB5-B42C-43A0-8782-BC168A4D3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0E4B0-FC4E-4AC2-BE9B-F59685969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848B4-FCF3-4C6D-BF6F-0B950123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772D-E360-42A7-AB73-498EC6838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8E027-8E8C-44D6-AB2E-E605B8D27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9FA3E-890C-4DA0-A69D-98111A61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B598B-3C58-4788-935D-849FABDD8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3359A-EACC-4F14-A11D-BF8B50E4C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F096D-17E5-4D24-BAB8-EAEABD2A3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F7762-2236-41F9-8CDE-A7AFDFE6C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BDB10-51B4-40BB-94FF-AF2DDC9EA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EB63F-CA24-43B0-B888-253993BA6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FC4C3-F774-4F6E-A232-B9829DD2A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F07AC-B240-4802-B122-B9AA071EF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4DB5-360F-487D-BD57-DB1EA1234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ACFEF-EDE1-4F35-9E40-8934EEA11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BB296-F5F9-44FB-B78C-005BBF71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70B4A-5754-4C66-B804-8873C5F2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703EB-55F6-480A-BC65-7EB33D7D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4E9F9-2485-4140-9B68-C66414FB1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18DF9-3922-49DF-AAB1-E37170E61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E36C8-B699-400A-92A9-49A803979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4A148-3A10-41A7-9E96-9D40DA8F2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A9715-BC4E-4C06-98AE-D56C080C6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08C4E-357E-4911-B80B-22111B6E0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8CDE-4673-4F9B-A880-1B23AFD1D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95768-C38A-4B00-A5FF-4F88A6CC1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8673C-2C78-4816-B622-6822970F9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B3D0A-6B2B-42EF-A79F-823880F2A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C292A-FC61-4C4E-B344-268F15AB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0ED27-6C18-45FD-842E-92D30298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2A81F-5370-4313-9D05-D3EF0ED9E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0F580-2327-4F2E-85B3-0B50B9314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6BCC8-C36B-4DA0-BD31-FE6A463E1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3197C-48D8-4D40-A5BC-7210F919E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E5936D-CE5F-497C-8659-029104D34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78FF-A11C-4972-A531-9942E48DD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A6781A-A81C-4805-AF31-1F82500E1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840457-3A3D-48D1-8344-C6FAC3F8A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BB8C47-D698-4C58-88B3-1E886A3FE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93A017-4255-454A-B5CD-D7BF52949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C748B3-1552-4543-B60A-654B6652B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1424BA-A81A-46B2-A758-48234A83F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444ABB-DF60-4FC3-ACA0-2E8B6D78A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BB3D19-D38D-4BC1-8122-1DD32B329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AE1BB2-C2AA-4FC6-A432-3AA860F81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49329E-044A-4A3A-94D7-01D4AEFDC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804C-2E16-4831-9051-404C0989A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4D68F2-69A4-42EA-99CE-49E269074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F9616B-FE4D-4B23-94A5-7753ABA7A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DD951D-E328-4DA5-BF4E-89A71A326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8D7E1D-EA0F-4B48-ADDE-14683DC50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A95016-514D-4CEA-AB60-D95923C30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AA7422-BD69-4ABB-9660-97790D0EC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F11FB-9306-4F55-A8BA-FB522B5CA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A78A0F-D9F2-40B4-B882-84BBF262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490235-710C-47D0-BB3E-7BDA4CC9F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4FF9CA-74CF-4735-9FE9-8456B482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7CB8-0DC1-4273-910C-8F6B4B37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47E791-32D8-4D2F-9328-8D0F45EB1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E7542E-A740-48D4-999E-393372160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5FDE4F-8589-4CE8-9E00-505416BF4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060754-3134-4B91-BFFD-AB965E2D2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A27371-0666-4FDC-8E86-DF0F6E886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C99133-3192-455D-8575-4B26FF5B7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02E980-283E-4AF3-8510-DE65AC925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9702AC-461B-4AE7-AFAB-D6049F8FC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813EB0-99C8-46BF-BF9D-E18D64F61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4D8AE7-20A8-4439-B0E9-9B04211F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ABB0-49A3-40E9-87BA-EFD20FA67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F22DDE-F0BE-49F7-8851-BBE75843C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CBC29F-7CED-4571-B3E0-235F544D3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54CB23-C2EB-47C4-B10D-7CDC7CF91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BD6D66-1B71-4A5F-BA47-C2A68F6CE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54D95C-A53F-4AAA-A071-18E3DCAAA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B5333B-70E0-4E6D-BDC7-35F4A7649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04B1DA-5BB9-42EA-AA27-D67289CBA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8DF332-A858-4769-B51D-BE95A6562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545393-B2CA-4BE6-9298-98BCF238D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ADACB3-572C-483E-BFAE-D502002D2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CDBC-8555-49B7-A676-0BED69E6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A41D43-9459-400F-A441-23F8F7C1D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130E9F-B98A-4E92-9F9B-387446B6A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07D8CD-7D6A-43A8-8451-CB2061F1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34ED17-F847-4236-B259-260D5F22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7026B2-710A-497A-BBD4-0CECA8583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6D2D84-2F81-4D2D-BDF8-106BEDE0B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7E5C26-61A6-4D78-941A-91E47CF30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8E0A72-8468-4098-89B8-7AABCF5FB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B89091-0FFB-4670-BC65-635AC573E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214551-8549-4DCB-ACCC-68CE603F2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6891E-7E61-44E1-828C-6FCCB28CE752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306E6-7207-4CC6-A5F0-2D3CDAAC1B2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756F6-0E07-4D5A-AE0A-C06678D7D65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53F5A-94C3-4B3A-9070-8DF301DF4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515A8-AECF-4111-A917-96422B6909FB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D36A6-B9AC-40D5-ACE9-F9156D084785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0CA07-7049-464C-B7AD-1CDBA71B4600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2B87C-4A75-4249-B84E-98A287F24A58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878D9-B289-4B91-894C-763D4CDDD6C2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3A1AC-C086-4708-89D2-667534D4DBC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F22AF-4B68-4A8D-B600-A64F8EBC548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5160C-BA15-409E-8121-2AF4DB7E36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7762B-51B6-43C0-B33B-C3CE39C0FCD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3DB3D-93EA-4AEC-8929-4A6EE52C05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F11E4-20C3-4647-A8BB-79EEFF56B9A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0D388-ADD5-44BC-AB76-07A257FED9DC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96437-61DE-4C67-B203-CC5180D01DBA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0C8B8-9DD3-4312-A7F4-D9476C4496C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B12A7-BF47-48EE-968B-E0316A45B944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A549B-E046-40B6-A013-CEC31DE0585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42CB5-553B-4423-9D7A-A61E6DA0774A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31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CF6A1-77A9-4940-B264-739369484F7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C9504-51BA-4D51-A73E-2A1A39144D1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FDF59-4F93-45D9-AF4A-6FD8E07C62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EA20-F0C1-4936-B03E-7EE86885470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229C3C-15ED-466E-ABB2-C149A745B80D}" type="datetime1">
              <a:rPr lang="en-US"/>
              <a:t>07/31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7BC538-0D2E-4A7E-AD6F-1B767716BC4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2190FC4B-1F2C-4074-ABEF-121F4FEBC345}" type="datetime1">
              <a:rPr lang="en-US"/>
              <a:t>07/31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" dur="15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5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3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37" dur="2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714E0-6EC6-41F8-AAA8-222E18DFDBD9}" type="slidenum">
              <a:t>3</a:t>
            </a:fld>
          </a:p>
        </p:txBody>
      </p:sp>
    </p:spTree>
  </p:cSld>
  <p:transition>
    <p:comb dir="horz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0"/>
                            </p:stCondLst>
                            <p:childTnLst>
                              <p:par>
                                <p:cTn id="1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6A5188-7639-4357-8EDB-F3B40B1F4C5E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3CA9F3B7-4151-489F-99F3-F28E067CBE54}" type="datetime1">
              <a:rPr lang="en-US"/>
              <a:t>07/31/26</a:t>
            </a:fld>
          </a:p>
        </p:txBody>
      </p:sp>
    </p:spTree>
  </p:cSld>
  <p:transition>
    <p:wedg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6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000"/>
                            </p:stCondLst>
                            <p:childTnLst>
                              <p:par>
                                <p:cTn id="2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8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8000"/>
                            </p:stCondLst>
                            <p:childTnLst>
                              <p:par>
                                <p:cTn id="2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FD6920-1E1A-4540-AA6A-94CAB5DAAB2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F11C10F0-CF31-4FBD-AA68-FD2EBD506B09}" type="datetime1">
              <a:rPr lang="en-US"/>
              <a:t>07/31/26</a:t>
            </a:fld>
          </a:p>
        </p:txBody>
      </p:sp>
    </p:spTree>
  </p:cSld>
  <p:transition>
    <p:wipe dir="d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3000"/>
                            </p:stCondLst>
                            <p:childTnLst>
                              <p:par>
                                <p:cTn id="27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4000"/>
                            </p:stCondLst>
                            <p:childTnLst>
                              <p:par>
                                <p:cTn id="28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0"/>
                            </p:stCondLst>
                            <p:childTnLst>
                              <p:par>
                                <p:cTn id="29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6000"/>
                            </p:stCondLst>
                            <p:childTnLst>
                              <p:par>
                                <p:cTn id="29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7000"/>
                            </p:stCondLst>
                            <p:childTnLst>
                              <p:par>
                                <p:cTn id="30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8000"/>
                            </p:stCondLst>
                            <p:childTnLst>
                              <p:par>
                                <p:cTn id="31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9000"/>
                            </p:stCondLst>
                            <p:childTnLst>
                              <p:par>
                                <p:cTn id="3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7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2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C4559D-01CB-4B91-94AB-49939DE23F9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285ECC2E-A772-4B5B-9C85-6EA33ED95620}" type="datetime1">
              <a:rPr lang="en-US"/>
              <a:t>07/31/26</a:t>
            </a:fld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2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3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1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2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