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7182-B8CA-4826-8F39-A2ECE5BAB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1B32-8798-4AD2-B099-C5DC3B17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7B620-C548-4B09-9835-552CAF06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54838-A126-4CD9-9974-AA83FE76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D0C30-BE01-4DC1-B399-AB61E025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1FB43-3A2F-4A80-8F1B-E025DD10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A26EA-3488-4739-92D8-465D244C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3E43C-A4B6-433F-96DF-BC38F48A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857EA-D642-46FA-AC5F-62074E8F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C9327-F19F-4DB3-A133-6E0A47F73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8B7A9-EE24-41F9-8592-C713D6C5D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0C71CB-A955-4EA8-B730-530B418F1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2C78-F85D-4DF2-90FE-C2FC0682B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1E5EF2-3DBD-4491-B295-7C359105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BB1A94-6CDB-4A0A-AE40-3FF1D4C2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F19E02-2B8D-496F-B5FE-CECCD90F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B6656E-15C6-45EE-BFE8-7B8B574F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3B56F7-E977-40BE-9850-7050FE3B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E480CA-4C40-4BED-86AC-24593E7B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D3B0C5-B4EB-4164-BA1D-9F73D34F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4EF0C9-60E3-40C3-B4DE-86E8C703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7DA799-1974-4052-BBA3-D10EC3B1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341F0B-EC27-409C-885C-641F0188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CE52-CD81-4EA1-A53A-96D321012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8F23C2-953B-4191-B9F5-188307ECB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06048-3086-478C-B4C3-F0DD033B8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81DB8-1A04-47F0-BD82-35A74129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1AA59-291C-49DF-8657-5F283C83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17169-2E51-4B79-80AE-40DBDDFC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C2C39-1479-4EC9-BD2C-2CE1885A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E16DD-D801-4DEA-B053-9E309A08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83DA1-B745-4A78-93B4-446EABD7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AD2B2-E5A1-412A-957D-74F2FA44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CB945-6905-4DAC-9BE0-56DA8381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CB4A-B18A-4778-8DBD-E814FF71D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A0EAE-E97A-42C3-8B2C-F9862ACA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84307-CED9-4C43-B66F-6268B9E93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3D344-CEB5-4595-AEC2-CD32BD6F1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018C88-84C9-4D03-9434-4CF8E7EAD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72DE7D-FE73-46E3-A81D-FA710457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36B297-EB14-4D5E-9897-E3A173B1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B26792-9C16-40CB-BDC5-5EE607DC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54CB7-AA21-4E0B-BC28-417238F6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1E6C13-BE85-4A04-B3C0-6F89258C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A04236-F4A0-4EA0-8CAA-1A571F6E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E1E2-D83C-4545-AA8D-9586AD32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154FBD-49A5-4289-B264-6C1FCA48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B596FA-0B4B-4CBF-A3FB-452405CE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202C43-F33C-4529-8525-99301747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04EE7B-FB9E-47B2-B865-BFBD6273B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2FDE28-8176-403A-A59A-D29624C18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3201-62A4-44C7-9CEE-60494C64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109B-81D7-481B-BBF3-1DB1C88C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0DFE-2378-442E-A811-5A1317D5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67B0-3BDE-46FD-A896-67992511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F757-43EE-417F-AB5C-D318B9A1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AC19-7C06-4E76-81F1-7BB0060B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22CA-1EF7-4C1F-AE07-74C61D2D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9D5F-C2DA-4C3D-BA38-7DBE90E7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2532-F898-410D-9F3F-85E8C7FD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AE2D-9DED-4A42-AB89-12204F481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BD21-06BC-412B-BD2C-7B09236FD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DEC66-8E8D-4076-BE56-DC5B81274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9DBF6-4837-47C0-B817-00C18D8D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C59F1-4E51-417C-BDB6-3BEDA9A5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3D843-55C5-4E25-9A46-4DCBE109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276A0-5071-4A86-81E3-196CF490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DAC3-A410-429A-A302-C3F03EF0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B8A6D-3D01-4180-9532-CCCECA42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2C233-61D5-46E5-B9B7-BB0A5F56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146FB-0DAD-42F6-A772-561EDBB3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3D8A4-7F25-4EAD-9401-A7D49AF7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F40DB-47E3-457A-A117-2B0A7CA3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08542-B0A3-402D-BD6E-A64816D85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84AE6-34A2-4CBD-8475-295A656B1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74523-8542-4F73-B271-A40EDE899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FBD31-6C4D-4C17-AE16-81253343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EFE9E-7ADB-409C-9C01-294BF9CC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F603-8206-4565-8800-F9EC5C47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D9B7A-8A35-44B5-9BEB-71176CAD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03951-90EB-4BC0-BB27-04161692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A6877-77F5-4F34-BBDF-0031019A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46C4E-E2F4-40D1-94DC-BCC67294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16811-82D5-417A-A6EC-C5C9CD77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02125-A6EE-43A0-9B0E-02A97B35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515D4-E005-41E3-A5B9-BC600F9C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D076E-F8CF-4207-BF8A-2B7D2D3F8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AC8B5-06FF-4B7B-B13E-EF5AB2C46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D144DA-1868-4A03-B18E-9AB017A23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C565-EC20-4A81-A68B-A41E64AB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91E7A3-E573-41C1-A197-BAC41213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80A411-88BC-4A29-83DE-E4F77B11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836261-B6EB-4E80-9EE3-446EB2F3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865675-7AEE-485F-AECF-C82F230A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638CE5-BE49-46F8-8E83-3CFF55F1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3D2E63-CCB8-4EF8-BD38-0D2FB460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DE49BA-5746-4109-8778-846A9E53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4D75A6-359F-4382-A8DF-982CA55A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830105-8C7D-475F-94B6-78915E38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4757AA-6153-4ADE-9884-E017BA171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86BE-F391-42F5-B062-6ACBB412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F6FBD7-48E1-4C68-B651-ADF49CA69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2ECF8-DE3E-49C4-BF5A-06614907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8A1EF-FB7F-4551-86CE-15804A70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F08FA-1F54-4900-88B3-2FEE5B2D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8D259-9B04-401F-BE8F-7EEF76BF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0EB25-4359-4E4A-9E43-C7A1F885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0DFA1-B869-41E9-8926-83F11835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E814D-919A-4167-9F98-FBC8CAF2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2774B-EE95-4669-AEA4-DBE731A2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995F2-9BB2-424E-AF97-D64E6530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5E8D-CB1E-46CE-9843-212AA558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2A7E1-406B-46CC-9345-0789314E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6FF41-CC19-4C92-B71F-DED0903B9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9E257-9652-4C92-904F-E10D3E60C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71CD2-4F2A-498C-9177-4BB0C8E88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633D7-3B2E-4F63-9BE4-13301463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C1636-3D55-4FC2-AEDD-B44A5D93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DB168-9DA1-424B-A032-B7C0E67F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560A1-22FF-4F24-BF56-CFE96893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C209D-279E-46C6-BA99-62BFB307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EBA2C-BDC6-4E31-A4C2-EF83019B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D38C-032E-4476-96F7-4387ACAE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1D765-3ACA-4897-AFEB-C68F7715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2D6F8-1ED3-4B34-84D5-D758912F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6391E-88D4-4605-A72B-57465284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54381-BEE7-4710-A5AE-7F791043C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A54F4-EDA9-4DAF-988A-BEACF1B87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B4EB0-C50C-416E-A821-FFCFCB6CE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4023D-BEC5-41F9-A8B4-D9ADEF3E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6CE44-6A14-477B-945D-1D7676B2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DA085-4A13-41F0-AE07-5F6016CB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37ACF-E151-407F-B71E-472F48D6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41C3-31AE-4B07-8321-486F0864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DB7F7-5765-4990-BE15-328B617C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341C8-7239-4104-9169-AE52BF7E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D4C26-EEF4-41E5-A4E8-F30D4EDD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CED27-100B-4836-81A7-5D27E193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E5988-166A-4F86-8433-CBE29AD9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506D6-B0DA-4D5B-BE40-31FEADD9A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55CD7-0366-44E4-9F42-07004FE7D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41AB1-30BD-4301-90ED-DB97A0897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84EEC-7AAB-4381-A7D2-9873CBEB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A4EBE-15DD-4B3E-A15B-5FA3D4BA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BF17-0DF1-4EBD-8E9F-0561675E03B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B597-71E7-4D2B-84CF-D560A65151B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1CA7-231A-4855-988E-B2BB4C72060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8BF7-B433-472C-86C7-98699D0B4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8609-D9D6-4891-BFBA-3E8BADBF7EF0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AB6A-0AA1-4371-ABDC-9DB10E1ADA5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DC27-84E1-498E-9524-FD67224A30AD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8E54-78B8-433B-B722-ED4A46D93BD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1284-7401-4411-BDAA-B161FDB3726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5E72-A961-479A-AE39-2DA70697D55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D772-E28D-416C-99B3-BA7BEE4BD39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497F-C00D-4E78-8878-F5B1B30DA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1C2D-EAB6-41B2-948B-64602B35984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8197-040F-4446-BA37-2922AE541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8B0B-9818-49FA-A59B-C2422671F93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FB8C-14D0-4726-B3B1-5F290569780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18D2-E26E-401C-B0E9-288C9942FC4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9B89-2E23-44FE-B265-BA220096C28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EDC1-30C5-4C60-9A35-0B2B8E127288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8E00-3671-40C2-959E-B559FB3867C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4117-1A40-4C32-A8C9-E2F635F160E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EF28-1AF8-4C3F-A5F9-8936E935C8D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BBA6-0234-439D-B058-5FE906FDF48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5107-1745-4683-9C2D-21F0A8326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CFA3-AB08-4717-9BCB-844A922231B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58E8B6-295A-4009-831B-089761DFA56F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8A3D4-F8C2-44EF-B22B-5BABB50867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C6784575-D735-4E52-A43B-7E9EA405B9AA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117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5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40249-66A8-4F1F-B29D-4BC00D4E2CC9}" type="slidenum">
              <a:t>3</a:t>
            </a:fld>
          </a:p>
        </p:txBody>
      </p:sp>
    </p:spTree>
  </p:cSld>
  <p:transition>
    <p:comb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EE576B-7787-4200-8DAC-94F84B28603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DC03FA56-5B92-4F9B-AD8C-CB52B3D4BA23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8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FB89C-1CFB-4458-AA9E-C56A7741A7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2C4713F2-CA0E-4493-83B4-7A3F2569E20B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0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9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29674-17E2-4D92-8099-BF761B7483E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76771450-A52A-4BE8-9724-86AAEA9200AD}" type="datetime1">
              <a:rPr lang="en-US"/>
              <a:t>07/28/26</a:t>
            </a:fld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